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D677-E70D-4486-893E-3C57F02F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9F72-2394-4413-A361-ADC9573D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4FD-BAB0-44AF-AE61-4B55AAC5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C44-CE93-4D23-8D8F-0E7E6E5A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BC1-6A73-4D2A-B727-61DC92E2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DB0-F59D-4351-B598-3AF026F2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D656-4273-4E42-9E97-B845EE56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20AC-AA0C-4826-BE0A-4ECC86DB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BF8C-A564-45EE-8784-A6936EFB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416E-5AD7-45C2-8E51-BC4047FD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F52-FA7E-4C94-B847-7CC02965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EC8-447B-4D91-A275-2D6B54B6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93CF-EEAC-4005-9C8E-FE39A38E7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uscovitmica" descr=""/>
          <p:cNvPicPr/>
          <p:nvPr/>
        </p:nvPicPr>
        <p:blipFill>
          <a:blip r:embed="rId1"/>
          <a:stretch/>
        </p:blipFill>
        <p:spPr>
          <a:xfrm>
            <a:off x="5105520" y="3808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30080" y="22860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838080"/>
            <a:ext cx="447660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fferent chemica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ovite mica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H,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stru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ot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hlogop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chs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innwal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pido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uscovitemica2" descr=""/>
          <p:cNvPicPr/>
          <p:nvPr/>
        </p:nvPicPr>
        <p:blipFill>
          <a:blip r:embed="rId2"/>
          <a:stretch/>
        </p:blipFill>
        <p:spPr>
          <a:xfrm>
            <a:off x="457200" y="3932280"/>
            <a:ext cx="4495680" cy="2697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4120" y="3276720"/>
            <a:ext cx="3597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ovite provides cleanest and most defect free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y muscovite is of the best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muscovite V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8280" y="1442880"/>
            <a:ext cx="7867440" cy="3972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38160" y="457200"/>
            <a:ext cx="36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ructure of muscovite 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63280" y="6095880"/>
            <a:ext cx="625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From: Daniel J. M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üller, Journal of Structural Biology 119, 172-188 (199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87480" y="803160"/>
            <a:ext cx="2587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ovite: SiA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by: best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4830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are twin variety from Brazil forms yellow five pointed stars and is called "Star Muscovite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eep green variety is called fuchsite and is colored by chromium inpuriti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heat insulator (oven window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16:22:38Z</dcterms:created>
  <dc:creator>Dionne</dc:creator>
  <dc:description/>
  <dc:language>en-US</dc:language>
  <cp:lastModifiedBy>Dionne</cp:lastModifiedBy>
  <dcterms:modified xsi:type="dcterms:W3CDTF">2003-12-10T16:42:31Z</dcterms:modified>
  <cp:revision>9</cp:revision>
  <dc:subject/>
  <dc:title>PowerPoint Presentation</dc:title>
</cp:coreProperties>
</file>